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4B5-DE4B-449F-9E56-DCFF19FC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D2E-1F6F-498E-8D86-008F4DE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118-9028-4F47-BFE5-6F5BFCA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B3C-EE0F-4647-A930-58F5024B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0558-3A9F-433C-8F17-A3E43685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0FA7-C577-49CB-B058-C71B8850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1586-D080-417E-A2F8-6503E98A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A9E8-D9E0-47F5-9D91-857B2D3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5A6D-5501-4B6F-A7F1-06C1E97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7A5-F1F2-4E7A-A19A-AE77B30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897-A22B-4E4C-A2DB-5B8740E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C81-A514-41F5-92C3-4D64A6EB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EE68-0F62-47EE-B55E-F69A1DE2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B50-BCF6-4A3E-BAE6-EF14D37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3D8-0350-49BB-AB00-A7F14A6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DA4-1150-46A0-B999-4204BCE6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B35-5901-4664-9F4E-A4828B32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B3F-93D3-4DCA-B6FE-2E4955BE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EED-C971-4F72-982D-4A89F034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9D6-A152-49E8-8203-912B9F5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8CB-5419-4116-92AB-6E7DEF3A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F52-6616-473B-BA44-80DF6DA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FC9-AC64-44B0-9B75-2063599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EE3-8168-487D-8A26-89A800C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309-62A2-426B-AFB5-D65E44911F4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9D1-BAF7-42F9-ADFE-F087AAFA398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oppenheim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0" y="51055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N.G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4/27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52480" y="990720"/>
            <a:ext cx="6248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103"/>
                    </a:gs>
                    <a:gs pos="50000">
                      <a:srgbClr val="ff0000"/>
                    </a:gs>
                    <a:gs pos="100000">
                      <a:srgbClr val="ffe103"/>
                    </a:gs>
                  </a:gsLst>
                  <a:lin ang="13500000"/>
                </a:gradFill>
                <a:latin typeface="Impact"/>
              </a:rPr>
              <a:t>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103"/>
                  </a:gs>
                  <a:gs pos="50000">
                    <a:srgbClr val="ff0000"/>
                  </a:gs>
                  <a:gs pos="100000">
                    <a:srgbClr val="ffe103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51" name=""/>
          <p:cNvSpPr/>
          <p:nvPr/>
        </p:nvSpPr>
        <p:spPr>
          <a:xfrm rot="1656600">
            <a:off x="417600" y="4614120"/>
            <a:ext cx="48276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ound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Heavy Metal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4-7-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5440" y="4778280"/>
            <a:ext cx="785520" cy="179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997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7997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Oppenheimer"/>
          <p:cNvPicPr/>
          <p:nvPr/>
        </p:nvPicPr>
        <p:blipFill>
          <a:blip r:embed="rId1"/>
          <a:stretch/>
        </p:blipFill>
        <p:spPr>
          <a:xfrm>
            <a:off x="457200" y="1905120"/>
            <a:ext cx="5715000" cy="1761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14400" y="4572000"/>
            <a:ext cx="7315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Lemelsons MIT Program, J. Robert Oppenheimer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y 10 2010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eb.mit.edu/invent/iow/oppenheimer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bert Oppenheimer invented the atomic bom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Invention: Atomic B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atomic bomb was a devastating sight when explo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It was made in the 1940’s by Robert Oppenhei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first atomic bomb made was tested in a desert in New Mexico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explosion had changed the worl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n 2 bombs were dropped in Japan cit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Japan then surrendered and that was the end of WWI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6019920" cy="2670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Inventor: Robert Oppenheim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Robert Oppenheimer made bomb during the 1940’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It was the time of WWI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He was concerned about Germany making powerful weapons and using them against the U.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So Robert was strong against it and started to make a new powerful weapon, the atomic bom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When the atomic bomb droppings were finished, Robert Oppenheimer was awarded the Enrico Fermi Awar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Robert Oppenheimer retired from work but then died in1967 from throat canc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1:37Z</dcterms:created>
  <dc:creator>install</dc:creator>
  <dc:description/>
  <dc:language>en-US</dc:language>
  <cp:lastModifiedBy>install</cp:lastModifiedBy>
  <dcterms:modified xsi:type="dcterms:W3CDTF">2010-05-12T13:12:56Z</dcterms:modified>
  <cp:revision>16</cp:revision>
  <dc:subject/>
  <dc:title>Slide 1</dc:title>
</cp:coreProperties>
</file>